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32F-6CF6-4EDA-A74A-267239C4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9D5-759F-4805-8611-E3545031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CE9-B127-4A81-B7D4-9A56565F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BAF-6648-4B05-BB29-28F0731A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105B-9BA0-42CC-A37A-6BB9D036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5D84-D556-48C4-8C7E-A21D6ED1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49B5-29BB-400B-A104-E526F9CA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CDEA-FD1F-49C0-A53E-E13E1262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5F27-7AD8-4BFB-AF92-D16101BB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3F87-CAB6-41A6-89FC-DCF35BD1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F1E2-33C3-45A5-BF34-E1315AFD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1F4-680C-4DF1-8843-1AF141C4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ACA9-0F45-4362-B6BA-B8DA8D1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484C-C6D2-46E3-B64B-2B54A3B1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B969-C642-4263-9327-EDA9A18F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40A0-EEB1-402A-A296-827B4D5D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9982-28EC-48F4-A68E-FB66FBA5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7E4-7935-4CA6-B7F0-CBE6A06F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11F-9FF9-4DAC-8D4A-CC16FDB2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DBD1-7BC0-4EEA-81B5-8AB8EE85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D41-0A25-4F9F-9A7C-8961B087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58B-1A52-4C10-9E55-68E07525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DA2-65C3-474C-8CB1-47D8A93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E48-6AA2-42D1-8058-A9C52D6C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B44B-4C6A-48BC-9868-5D37313AB6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5CCC-A8C5-416F-A727-DE79456D6A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очему клиент-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ьзование решения клиент/сервер может заинтересовать вас в следующем случае: представьте, что вы ответственны за создание приложения, которое обращается к данным, постоянно находящимся в локальной сети или на файловом сервер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нутри вашего подразделения к этому приложению могут обратиться одновременно несколько пользователей, а со временем появляются и другие приложения для работы с этими данны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едположим, что эти данные представляют интерес и для других подразделений внутри вашей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 в  некоторых подразделениях нашей компании  должны быть созданы дополнительные приложения. При этом, скорее всего, необходимо переместить данные на сервер для того, чтобы сделать их доступнее для всех пользовател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кольку это происходит на уровне организации, важно, чтобы используемое решение позволяло осуществить доступ к данным не только быстро, но и в необходимом для приложения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ледует отметить, что глобальная доступность данных приводит к появлению некоторых проблем. Самые важные из них  -  чрезмерная сетевая нагрузка и зaщита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приведенном примере показано что технологи клиент –сервер  обладает целым рядом преимущест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Допускает ведомственный доступ к данным, что позволяет подразделениям обрабатывать только ту часть данных, за которую они ответственны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доступ к данным способом, предложенным производителем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станавливает правила целостности данных для всей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беспечивает "разделение труда" между клиентом и сервером (каждый выполняет задачи, для решения которых более приспособлен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ожет использовать улучшенные возможности целостности данных, обеспечиваемые большинством серверов базы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Уменьшает сетевую нагрузку, поскольку клиенту возвращаются подмножества данных, а не все таблицы, в случае локальных баз данных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ледует отметить, что использование технологии клиент-сервер не всегда оправдан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азработчик должен провести полный анализ требований к системе для определения того, является ли технология клиент-сервер именно тем средством, которое необходимо для решения поставленных зада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роме того, следует учесть, что системы клиент/сервер весьма дорогостоящие. В эту стоимость входит программное обеспечение, операционная система, сервер базы данных и аппаратные средства, соответствующие программному обеспечению этого уровня. Не стоит забывать и о затратах пользователей работе с операционной системой и программным обеспечением базы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иен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функция компьютера-клиента ( или программы-клиента) состоит в выполнении приложения (интерфейса с пользователем и логики представления) и осуществлении связи с сервером, когда этого требует прило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Серве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ак следует уже из самого термина, главная функция компьютера-сервера заключается в обслуживании потребностей клиента. Термин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"Сервер"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используется для обозначения двух различных групп функций: файл-сервер и сервер баз данных (далее эти термины означают в зависимости от контекста либо программное обеспечение, реализующее указанные группы функций, либо компьютеры с этим программным обеспечением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Файл-серверы не предназначены для выполнения операций с базами данных, их основная функция -разделение файлов между несколькими пользователями, т.е. обеспечение одновременного доступа многих пользователей к файлам на компьютере - файл-сервере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о чаще компьютер с сервером баз данных выделяется только для выполнения операций с базами данных. Связь с клиентом, анализ и выполнение запроса к базе данных, включая возврат клиенту результата запроса (набора строк из базы данных), управление одновременным доступом к базе данных многих пользователей, перенаправление запросов к другим серверам сети, выполнение реляционных операций, управление словарем-справочником данных и обеспечение защиты - таковы некоторые основные функции сервера баз данных. Одно из важных требований к серверу - это то, что операционная система, в среде которой размещен сервер баз данных, должна быть многозадачной (и, желательно, но не обязательно, многопользовательско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Back Office System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 недавних пор разрабатываемые прикладные системы (или приложения) были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нацелены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 решение основных потребностей бизнес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платежных документов и расчет заработной платы (Payroll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счетов дебиторов (A/R) и кредиторов.(A/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учетных документов (Inventory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бработка заказов (Order Processing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акие системы называются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базовыми ("Back Office Systems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Основной функцией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х систем является хранение и ведение соответствующих запис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добные системы </a:t>
            </a:r>
            <a:r>
              <a:rPr b="1" i="1" lang="ru-RU" sz="1900" spc="-1" strike="noStrike">
                <a:solidFill>
                  <a:srgbClr val="000000"/>
                </a:solidFill>
                <a:latin typeface="Arial"/>
              </a:rPr>
              <a:t>используютс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о всех сферах деятельности, они могут быть приобретены на стороне и адаптированы к специфике конкретной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66"/>
                </a:solidFill>
                <a:latin typeface="Arial"/>
              </a:rPr>
              <a:t>Front Office Application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настоящее время возникла острая необходимость в прикладных системах, которые непосредственно способствуют успеху организации на рынке, ее доходности, росту продаж, анализу информацию и поддержке принятия решений, усовершенствованию продукции, автоматизации процессов производства и распределения и т.д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и системы можно назвать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системами взаимодействия с внешним миром ("Front Office Application")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ни должны быстро разрабатываться, функционировать в разнородных сетевых средах, сочетать использование таких видов информации как аудио, видео, графику и текст, иметь доступ к изолированным источниками информации ("информационным островам"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ые вычислен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мин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"распределенные вычисления"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(Distributing computing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часто используется для обозначения двух различных, хотя и взаимодополняющих концепций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база данных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менение этих концепций дает возможность организовать доступ к информации, хранящейся на нескольких машинах, для конечных пользователей, использующих различные средств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Распределенная баз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Распределенная баз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набор баз данных, связанных между собой логически, но физически расположенных на нескольких машинах, входящих в одну компьютерную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8000"/>
                </a:solidFill>
                <a:latin typeface="Arial"/>
              </a:rPr>
              <a:t>Важнейшие характеристик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распределенной базы данных таков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зрачность расположения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автономность узлов распределенной базы данных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Site Autonomy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бработка распределенных запросов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распределенных транзакци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Характеристики распределенной базы данны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Прозрачность расположе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зволяет пользователям работать с базами данных, не зная ничего об их расположен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Автономность узлов распределенной баз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анных означает, что ведение каждой базы может происходить независимо от други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Распределенный запрос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это такой запрос (SQL-предложение), в ходе выполнения которого происходит доступ к объектам (таблицам или представлениям) разных баз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88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и выполнении распределенных транзакций осуществляется </a:t>
            </a:r>
            <a:r>
              <a:rPr b="1" i="1" lang="ru-RU" sz="1900" spc="-1" strike="noStrike">
                <a:solidFill>
                  <a:srgbClr val="008000"/>
                </a:solidFill>
                <a:latin typeface="Arial"/>
              </a:rPr>
              <a:t>согласованное управление (concurrency control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семи вовлеченными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Распределенная обработка данных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аспределенная обработка данны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значает разные понятия для разных людей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ccc00"/>
                </a:solidFill>
                <a:latin typeface="Arial"/>
              </a:rPr>
              <a:t>Например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Oracle это отделение прикладных программ от выполнения операций с базам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перации с базами данных носят общий характер и могут соответствовать требованиям различных приложений по обработке информ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полнение операций с базами данных на одной машине и приложений на другой - это и есть распределенная обработка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вязь между приложением и процессами выполнения операций с базами данных реализуется как аппаратурой, так и путем программного обеспечения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Клиент-сервер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Технология клиент-сервер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является реализацией распределенной обработки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ипичная архитектура клиент/сервер состоит из 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программы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клиента</a:t>
            </a:r>
            <a:r>
              <a:rPr b="1" lang="en-US" sz="1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нечного пользователя, которая имеет доступ  на удаленном компьютере-</a:t>
            </a:r>
            <a:r>
              <a:rPr b="1" i="1" lang="en-US" sz="1900" spc="-1" strike="noStrike">
                <a:solidFill>
                  <a:srgbClr val="008000"/>
                </a:solidFill>
                <a:latin typeface="Arial"/>
              </a:rPr>
              <a:t>сервере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Это разделение процессов обработки данных основано на группировании функ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е существует никакого стандартного определения, что такое клиент и чем занимается сервер. Однако можно полагать, что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обеспечивает сервис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лиент запрашивает сервис у сервер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 одному и тому же серверу может обращаться множество клиентов с требованием предоставить им какой-либо сервис, и именно сервер решает, как обработать такие запрос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среде клиент-сервер последний играет намного большую роль, чем просто распределитель данных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актически сервер выполняет основную часть работы систем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Сервер  в некоторой мере руководит клиентом, каким образом тот должен получать доступ и управлять данны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ально клиентские приложения предназначены только для предоставления данных пользователю или для их доставки от конечного пользовател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07-06T02:26:5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